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371-763A-44E0-A26B-FBA782B8639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3E82-17E5-456B-9F1D-8BD6C18B256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iagnostic Assessment of student understanding of st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BF3-DF3D-48C1-845D-E20B59DE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F09-7C01-4C08-BE6A-A17A025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B36-97B4-4745-8A99-73122AF0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F22-3D9F-4B76-9546-EE0D70B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B6AE-DF02-4CF6-9F31-E1568D5E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202-9B96-4983-AC6E-B101A3F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E4A-7D8B-41A9-B160-18493922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E590-8740-46C9-922E-1AF632F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55B7-2FF6-4EBD-A0AB-6EEFF074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5B4-2131-4088-B29E-A78C6458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794-8992-4C90-A59C-C0439D0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5E9-FBC7-4E1E-8E32-AFAA730D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5B2B-C69F-49C7-A764-C696C88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52F8-A89F-4B2F-9DF0-2CD3C1C0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908D-B805-4A5E-8606-C9B9ADA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4C75-D8D9-4EF9-B190-3DBBC8D9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38E-CC4C-432C-9623-153DA4F5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06F9-477A-454B-B1AC-886394AB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3BFF-DB40-4034-90F2-381BE1B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690C-6DD4-4003-ABD2-2976AE8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06B1-E403-427F-9339-EDAF939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8944-172D-4C64-AE5A-736094C1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186-6D86-4521-BF32-665FEE3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61E7-5B8C-4C4D-8825-EF511FB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0643-4E47-4AEA-BA79-11797E1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1B63-820D-43F4-9742-7407CBD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AE3D-DC4B-4D8A-AE9A-C097C93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5A7D-1970-465A-9AD6-78C9B4C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BCE5-5BB4-42A1-B7FD-D583BE8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CD4A-DBD1-4FD1-A11D-E9F4E77F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32A9-E129-4221-915F-94B66F67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E47E6-4884-4208-86E9-F872D44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11066-F1CC-4725-925B-F07660D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345-ACDE-4566-9D9E-C20410EC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FCAD0-B6DE-431F-9345-22C0810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8DE7-01CE-4291-8AC3-DED00BF6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596A-C798-42E8-B856-93729A5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F693-49A1-4952-9513-639F0B3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D1BDC-A007-4573-B248-A615F03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D6B4-BC3C-47D2-A56D-439B37F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FB55-C31D-4FDA-881B-D9CC3BF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C381-0A66-4D32-80BE-21A06901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BE62-F207-4CAF-8F3C-D2F8FB64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52E8-8DC8-4AD8-B225-72E6F90D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A4E-15F6-4487-B2E8-A62B134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E7AF5-C4C4-4C58-9249-3A48DCCA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8D5A-5E55-4B02-9F21-6058882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A90B-6F93-4EE2-AC88-0D61B8E5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2B7C-90FC-4901-A65A-7FF4E3A9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1EF9-D874-457F-AEE8-4AC68A4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7098-FB20-4F84-931E-90F5964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1C85-9F6F-4FFC-B512-91F9293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0429-71FC-4C3E-882C-868B2E3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4C6A-AE6C-4C56-B5B9-4CE97A03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DC15B-8B30-418F-804D-FAB64506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523-0843-4C0E-8E6F-8087CAF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8F126-19E8-4130-B646-8737E21D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1EF5D-D2C9-49F2-AA7C-C01584FD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ED0B-0ECD-464F-8E1B-A0C94AF3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1FA6B-CF84-4E72-908C-B656504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DCBD-C73D-4CBD-AD92-5761D545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FF18-1E2E-4B24-8D4A-E0E84D8C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B172-B49C-4F26-BCE7-982B41F4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4FE5-2226-491A-9467-823685A7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BF76-A7A5-4B6F-BF87-AF2BA0E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75898-29E0-4213-A286-CB91FB4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CA4-1990-4482-9AE1-14659A4A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E062-4C47-4DF6-A41B-CD0FE0D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E15D3-D85D-4949-AA20-203A7F39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24DD-EB17-4DC4-9575-E2F0327C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C901-389D-4E97-9C72-2025AE33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49D5B-EBA4-414C-BDEA-215E08E4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7646D-A44A-41FF-9423-288AF97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0EAF3-8C28-4557-BBD8-FB91CE5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D6D5-2E63-48FE-841B-05DBB3BD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7CEF-3C83-4EE2-ADCB-E46983F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9F0C-01D2-4F6A-86B9-DFB16CF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AAD-9E80-4A78-A027-8277C4B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693A-CBA5-43F5-8783-347E517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40C11-BF18-4CD5-9F77-FA4EDDB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928D-36B4-4C58-8ADE-5B1AD40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8C969-07CF-4257-A84A-44852D8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BFEBE-10F0-4306-BF83-57B255C9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44F-D19A-4D01-B6F9-119F84D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5A89-737F-4EA7-8D2E-E20FCB8FD5F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E9FA-1BD2-4B64-8987-429DB2174E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0CE-B0DE-48F3-8836-5DC3CD412FA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9AE-11FF-4B37-B38C-357C173689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C18-DBE5-4E0D-93AE-34C6DE93EEE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50A-3BFB-4F53-B984-CF548EFCF31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E20-6024-4FC1-A97D-029F70708D1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OICHIOMET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6629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OISE Senior Chemistry AQ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Concept Presentation – November 9, 201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ndara"/>
              </a:rPr>
              <a:t>Presented by Wendy Loui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5" descr="C:\Profiles\ICW087-PAF.ICICLE.062\Local Settings\Temporary Internet Files\Content.IE5\5Z9UOFNT\MP900399578[1].jpg"/>
          <p:cNvPicPr/>
          <p:nvPr/>
        </p:nvPicPr>
        <p:blipFill>
          <a:blip r:embed="rId1"/>
          <a:stretch/>
        </p:blipFill>
        <p:spPr>
          <a:xfrm>
            <a:off x="2895480" y="2268360"/>
            <a:ext cx="1096920" cy="1484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:\Profiles\ICW087-PAF.ICICLE.062\Local Settings\Temporary Internet Files\Content.IE5\5Z9UOFNT\MC900434868[1].png"/>
          <p:cNvPicPr/>
          <p:nvPr/>
        </p:nvPicPr>
        <p:blipFill>
          <a:blip r:embed="rId2"/>
          <a:stretch/>
        </p:blipFill>
        <p:spPr>
          <a:xfrm>
            <a:off x="419112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3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Use the balanced equation to set up a molar ratio: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 mole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2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=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2 moles of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NH</a:t>
            </a:r>
            <a:r>
              <a:rPr b="0" lang="en-CA" sz="11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3 </a:t>
            </a:r>
            <a:r>
              <a:rPr b="0" lang="en-CA" sz="1100" spc="-1" strike="noStrike" u="sng">
                <a:solidFill>
                  <a:srgbClr val="000000"/>
                </a:solidFill>
                <a:uFillTx/>
                <a:latin typeface="Candara"/>
              </a:rPr>
              <a:t>(g)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0.133 moles                     x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x   =  0.266 moles of ammonia produced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Step 4: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onvert moles of the desired product to mass requir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Calculate the mass of ammonia in 0.266 mole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(g).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The atomic mass of NH</a:t>
            </a:r>
            <a:r>
              <a:rPr b="0" lang="en-CA" sz="11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= 14.007 u + 3 (1.008 u)  = 17.031 u  = 17.031 g / mol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Set up a ratio to convert moles to mass:                     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17.013 g </a:t>
            </a: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=       </a:t>
            </a:r>
            <a:r>
              <a:rPr b="0" lang="en-CA" sz="1100" spc="-1" strike="noStrike" u="sng">
                <a:solidFill>
                  <a:srgbClr val="073e87"/>
                </a:solidFill>
                <a:uFillTx/>
                <a:latin typeface="Candara"/>
              </a:rPr>
              <a:t>x  gram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1 mol                   0.266 moles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x  =  4.53 g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ndara"/>
              </a:rPr>
              <a:t>Concluding Statement:  </a:t>
            </a:r>
            <a:r>
              <a:rPr b="0" lang="en-CA" sz="1100" spc="-1" strike="noStrike">
                <a:solidFill>
                  <a:srgbClr val="000000"/>
                </a:solidFill>
                <a:latin typeface="Candara"/>
              </a:rPr>
              <a:t>From 3.75 g of nitrogen, 4.53 g of ammonia are produced.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ndara"/>
              </a:rPr>
              <a:t>Student Demonstration: Explaining the Quantitative Relationships Expressed in Balanced Equations</a:t>
            </a: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118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o summarize the information learned about calculations and to assist students make the connection between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acroscopic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1" i="1" lang="en-US" sz="1200" spc="-1" strike="noStrike">
                <a:solidFill>
                  <a:srgbClr val="073e87"/>
                </a:solidFill>
                <a:latin typeface="Candara"/>
              </a:rPr>
              <a:t>microscopic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levels of reactions have them develop a table similar to the following using the previous reaction or they can use another reactio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 materials they will have available to demonstrate and teach their learning to the class about their tables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jellybeans of 3 different colours (one for each element; to represent particles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mini ‘mole’ animal toy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sca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 from molecular kit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They can then present their tables to the class to explain the relationship between number of 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Mole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Gra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Atoms;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Molecules; an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- Particles … in the reac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48320" y="1600200"/>
          <a:ext cx="3632040" cy="4997160"/>
        </p:xfrm>
        <a:graphic>
          <a:graphicData uri="http://schemas.openxmlformats.org/drawingml/2006/table">
            <a:tbl>
              <a:tblPr/>
              <a:tblGrid>
                <a:gridCol w="1212840"/>
                <a:gridCol w="1209600"/>
                <a:gridCol w="12096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ndara"/>
                        </a:rPr>
                        <a:t>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.75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79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4.53 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13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39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0.26 m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nitrogen atoms &amp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6 hydrogen at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 molec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3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 molec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7.86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2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2.35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1.60 x 10</a:t>
                      </a:r>
                      <a:r>
                        <a:rPr b="0" lang="en-US" sz="1200" spc="-1" strike="noStrike" baseline="30000">
                          <a:solidFill>
                            <a:srgbClr val="073e87"/>
                          </a:solidFill>
                          <a:latin typeface="Candara"/>
                        </a:rPr>
                        <a:t>23 </a:t>
                      </a:r>
                      <a:r>
                        <a:rPr b="0" lang="en-US" sz="1200" spc="-1" strike="noStrike">
                          <a:solidFill>
                            <a:srgbClr val="073e87"/>
                          </a:solidFill>
                          <a:latin typeface="Candara"/>
                        </a:rPr>
                        <a:t>partic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381240" cy="2858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7086600" y="27432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7543800" y="2666880"/>
            <a:ext cx="3808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1752120"/>
            <a:ext cx="7408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3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ake up homework problems on Using Molar mass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4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Handouts, Mole Ratio, Review definitions and concepts by preparing Concept Map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5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GIZMOs© computer program to Solve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6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eer Activity ‘Developing Flowcharts to Solve Problems’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uiz - ‘Definitions in Stoichiometry’ and Calculations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7 &amp; 8: </a:t>
            </a: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Introduce ‘Actual &amp;Theoretical Yield - Limiting Reactant’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ndara"/>
              </a:rPr>
              <a:t>Lesson 9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Lab - Reaction between aqueous copper (II) sulfate and iron. (see the File ‘Stoichiometry Lab’).   Students will conduct lab to determine the amount of product produced and the percent yield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0: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ing Molar Volumes In Stoichiometric Problem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Lesson 11: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i)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nit Review (Groups prepare a Concept Attainment Chart on ‘Stoichiometry’) and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i) S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art Culminating Task: Stoichiometric Applications in Industry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Additional Lessons Within the Unit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Difficulties &amp; Assessment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71560" y="1676520"/>
            <a:ext cx="7408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Difficulties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 (see summary handout for potential solutions the teacher can use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A)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ue to the multi-step calculations required to solve mole-to-mass conversion word problems students may experience difficulty organizing their information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B) Students belie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the coefficients in the balanced equation relate the masses of the substance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C) 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Students believe that c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hanging the coefficient for a substance changes the molar mass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) The chemical vocabulary associated with these operations may prevent the students from applying their mathematical skills to chemical phenomena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3e87"/>
                </a:solidFill>
                <a:latin typeface="Candara"/>
              </a:rPr>
              <a:t>Assessment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Diagnostic Assessment: pre-unit quiz, Hamburger Sandwiches problem, and ammonia reaction problem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rmative </a:t>
            </a: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Assessment: Homework, Gizmos work, Concept Attainment Strategy and class participation, Lab Report results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73e87"/>
                </a:solidFill>
                <a:latin typeface="Candara"/>
              </a:rPr>
              <a:t>Summative Assessment: Unit test, quiz, Culminating Task</a:t>
            </a:r>
            <a:r>
              <a:rPr b="0" lang="en-CA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Expectations Addressed from the </a:t>
            </a:r>
            <a:r>
              <a:rPr b="1" lang="en-CA" sz="1400" spc="-1" strike="noStrike">
                <a:solidFill>
                  <a:srgbClr val="000000"/>
                </a:solidFill>
                <a:latin typeface="Candara"/>
              </a:rPr>
              <a:t>‘Quantities in Chemical Reactions’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Strand of Grade 11 Chemistry – University Preparation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2.5 Calculate the corresponding mass, or quantity in moles or molecules, for any given reactant or product in a balanced chemical equation as well as for any other reactant or product in the chemical reaction [AI]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D3.4 Explain the quantitative relationships expressed in a balanced chemical equation, using appropriate units of measure (e.g., moles, grams, atoms, ions, molecules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Key concept students will learn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The coefficients of a chemical equation are the basis for interpreting and predicting quantitative relationships in chemical reactions (stoichiometry).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ndara"/>
              </a:rPr>
              <a:t>By the end of the unit students should be able to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)  Determine the amount of any substance in a reaction, given the amount of any other substance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ii) Determine the mass of any substance in a reaction, given the amount or mass of any other substance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ndara"/>
              </a:rPr>
              <a:t>Expectations &amp; Key Concep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</a:t>
            </a:r>
            <a:r>
              <a:rPr b="1" lang="en-CA" sz="1600" spc="-1" strike="noStrike">
                <a:solidFill>
                  <a:srgbClr val="073e87"/>
                </a:solidFill>
                <a:latin typeface="Candara"/>
              </a:rPr>
              <a:t>mole concept is introduced and used in stoichiometric calculation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Students learn to convert the mass of a substance to the number of particles and the number of moles of the substance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The mole concept is the link that </a:t>
            </a:r>
            <a:r>
              <a:rPr b="0" i="1" lang="en-CA" sz="1600" spc="-1" strike="noStrike">
                <a:solidFill>
                  <a:srgbClr val="073e87"/>
                </a:solidFill>
                <a:latin typeface="Candara"/>
              </a:rPr>
              <a:t>relates the macroscopic measurement of mass or volume with the submicroscopic number of particles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llowing is an </a:t>
            </a:r>
            <a:r>
              <a:rPr b="1" lang="en-CA" sz="1600" spc="-1" strike="noStrike">
                <a:solidFill>
                  <a:srgbClr val="000000"/>
                </a:solidFill>
                <a:latin typeface="Candara"/>
              </a:rPr>
              <a:t>overview of the lesson sequences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 for the unit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The focus of this presentation will be on Lessons 2- 4</a:t>
            </a:r>
            <a:r>
              <a:rPr b="0" lang="en-CA" sz="1600" spc="-1" strike="noStrike">
                <a:solidFill>
                  <a:srgbClr val="073e87"/>
                </a:solidFill>
                <a:latin typeface="Candara"/>
              </a:rPr>
              <a:t>.  It will be presented in depth since this lesson represents the expectations to be addressed (D 2.5 and D 3.4) and concepts to be learned</a:t>
            </a:r>
            <a:r>
              <a:rPr b="0" lang="en-CA" sz="1600" spc="-1" strike="noStrike">
                <a:solidFill>
                  <a:srgbClr val="000000"/>
                </a:solidFill>
                <a:latin typeface="Candara"/>
              </a:rPr>
              <a:t>.  The lab, Gizmos lab work period, and Peer Activity ‘Developing Flowcharts to Solve Problems’ also address these expectations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5334120" y="1546200"/>
            <a:ext cx="919080" cy="61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:\Profiles\ICW087-PAF.ICICLE.062\Local Settings\Temporary Internet Files\Content.IE5\5Z9UOFNT\MC900439407[1].jpg"/>
          <p:cNvPicPr/>
          <p:nvPr/>
        </p:nvPicPr>
        <p:blipFill>
          <a:blip r:embed="rId2"/>
          <a:stretch/>
        </p:blipFill>
        <p:spPr>
          <a:xfrm>
            <a:off x="7010280" y="1219320"/>
            <a:ext cx="1349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Hook : </a:t>
            </a: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‘Hamburger Sandwiches’ Problem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Introduce the ‘Hamburger Sandwiches’ problem as an Investigation for students to solve without teacher assistance.  This problem links their understanding of balanced equations, masses of reactants and products</a:t>
            </a:r>
            <a:r>
              <a:rPr b="0" lang="en-US" sz="1200" spc="-1" strike="noStrike">
                <a:solidFill>
                  <a:srgbClr val="073e87"/>
                </a:solidFill>
                <a:latin typeface="Candara"/>
              </a:rPr>
              <a:t> and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o the concept of converting moles to mass in chemical equations.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Lesson courtesy of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Journal of Chemical Education Vol. 80 No. 9 September 2003 - see pdf file attached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‘</a:t>
            </a:r>
            <a:r>
              <a:rPr b="0" lang="en-CA" sz="1400" spc="-1" strike="noStrike" u="sng">
                <a:solidFill>
                  <a:srgbClr val="073e87"/>
                </a:solidFill>
                <a:uFillTx/>
                <a:latin typeface="Candara"/>
              </a:rPr>
              <a:t>Hamburger Sandwiches’ Problem             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1: Understanding Formulas and the Use of Equation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principal has organized a school meeting and you are charged with ordering lunch from a hamburger chain called Burger Chem that makes sandwiches using two or three identical slices of brea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You ordered 100 MacChem sandwiches, but somebody made a mistake and 100 HambChem and 100 CheeseChem were delivered instead. You need to convert these other types of sandwiches into 100 MacChem before the principal notices the error.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How many HambChem and CheeseChem do you need to obtain 100 MacChem sandwiches if compositions are: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HambChem: 2 slices of bread (B) and 2 hamburgers (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CheeseChem: 2 slices of bread and 2 slices of cheese (Ch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- MacChem: 3 slices of bread, 2 hamburgers, and 1 slice of cheese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Activity 2: Understanding Mass Conservatio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Q: What is the mass of 100 MacChem sandwiches? Is there any relationship between the mass of 100 MacChem sandwiches and the masses of 100 HambChem plus 50 CheeseChem?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6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Data: mass of each slice of bread (B), 25 g; mass of each hamburger (H), 80 g; mass of each cheese slice (Ch), 15 g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Picture 2" descr="C:\Profiles\ICW087-PAF.ICICLE.062\Local Settings\Temporary Internet Files\Content.IE5\5Z9UOFNT\MC900264260[1].wmf"/>
          <p:cNvPicPr/>
          <p:nvPr/>
        </p:nvPicPr>
        <p:blipFill>
          <a:blip r:embed="rId1"/>
          <a:stretch/>
        </p:blipFill>
        <p:spPr>
          <a:xfrm>
            <a:off x="7315200" y="2590920"/>
            <a:ext cx="919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ara"/>
              </a:rPr>
              <a:t>Student Exploration to Discover How to Use</a:t>
            </a:r>
            <a:r>
              <a:rPr b="0" lang="en-CA" sz="3600" spc="-1" strike="noStrike">
                <a:solidFill>
                  <a:srgbClr val="000000"/>
                </a:solidFill>
                <a:latin typeface="Candara"/>
              </a:rPr>
              <a:t> Molar Masses in Stoichiometric Problems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Following the ‘Hamburger Sandwiches’ problem, the teacher can allow the students to work in groups on the following problem to observe their problem solving skills (diagnostic assessment)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If 3.75 grams of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itrogen gas are used in the following reaction, are 3 x 3.75 grams of hydrogen gas required for the reaction to occur completely?  Why or Why not?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4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The teacher can provide the following hints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Convert the macroscopic information / numbers (large-scale) to the microscopic numbers (small-scale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1400" spc="-1" strike="noStrike">
                <a:solidFill>
                  <a:srgbClr val="073e87"/>
                </a:solidFill>
                <a:latin typeface="Candara"/>
              </a:rPr>
              <a:t>You need to use the molar mass of a compound (microscopic) to find its actual / real (macroscopic) mass”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209320"/>
            <a:ext cx="74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Depending on student success and progress with the previous problem, the teacher can  present the following steps to help students organize their solution proces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andara"/>
              </a:rPr>
              <a:t>Four steps required to solve stoichiometric problems (Algorithm)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1. Write the balanced equation for the reaction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2. Convert the given mass or volume of a reactant or product to moles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3. Use the coefficients in the balanced equation to set up the appropriate mole ratio and multiply to     calculate moles of the desired reactant or product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4. Convert moles of the desired reactant or product to mass or volume require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73e87"/>
                </a:solidFill>
                <a:latin typeface="Candara"/>
              </a:rPr>
              <a:t>OR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Alternatively students could use the GRASS / GRASP (Given, Required, Analysis, Solution,  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andara"/>
              </a:rPr>
              <a:t>Sentence /Phrase) method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Candara"/>
              </a:rPr>
              <a:t>Providing Algorithms to Assist with Problem Solving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Profiles\ICW087-PAF.ICICLE.062\Local Settings\Temporary Internet Files\Content.IE5\NDCBJD59\MP900411803[1].jpg"/>
          <p:cNvPicPr/>
          <p:nvPr/>
        </p:nvPicPr>
        <p:blipFill>
          <a:blip r:embed="rId1"/>
          <a:stretch/>
        </p:blipFill>
        <p:spPr>
          <a:xfrm>
            <a:off x="7467480" y="25146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1981080"/>
            <a:ext cx="740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 u="sng">
                <a:solidFill>
                  <a:srgbClr val="000000"/>
                </a:solidFill>
                <a:uFillTx/>
                <a:latin typeface="Candara"/>
              </a:rPr>
              <a:t>Topic 1: Predicting the Mass of a Reactant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now conduct formal ‘scientific’ calculations using the following reaction.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Q: Calculate the mass of the second reactant in the reaction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How many grams of hydrogen gas are required for 3.75 grams of nitrogen gas to react completely?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Calculate the number of mole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gas in 3.75 grams of nitrogen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atomic mass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itrogen is 14.007 u.  There are 2 nitrogen atoms, therefore 28.014 u = 28.014 g / mol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number of moles in 3.75 g of nitrogen:           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8.014 g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=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3.75 g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          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13 moles of nit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981080"/>
            <a:ext cx="74088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3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Use the coefficients in the balanced equation to set up the appropriate mole ratio and multiply to calculate moles of the desired reactant or product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e of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reacts with 3 moles of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o the number of moles of hydrogen required = 0.13 x 3 = 0.39 moles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4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moles of the desired reactant or product to mass or volume requir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Molar mass of hydrogen = 2 x 1.008 u = 2.016 u = 2.016 g /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Set up a ratio to calculate the mass of hydrogen in 0.39 mole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2.016 g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    =    </a:t>
            </a:r>
            <a:r>
              <a:rPr b="0" lang="en-CA" sz="1200" spc="-1" strike="noStrike" u="sng">
                <a:solidFill>
                  <a:srgbClr val="073e87"/>
                </a:solidFill>
                <a:uFillTx/>
                <a:latin typeface="Candara"/>
              </a:rPr>
              <a:t>x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1 mol              0.39 mol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X = 0.79 g of hydrogen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Concluding statement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3.75 g of nitrogen requires 0.79 g of hydrogen to react completely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828440"/>
            <a:ext cx="7408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73e87"/>
                </a:solidFill>
                <a:uFillTx/>
                <a:latin typeface="Candara"/>
              </a:rPr>
              <a:t>Topic 2: Predicting the Mass of a Produ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The students and teacher will attempt to calculate the mass of the product given questions such as...   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                               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N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    +    3 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 (g) →   2 NH</a:t>
            </a:r>
            <a:r>
              <a:rPr b="0" lang="en-CA" sz="1200" spc="-1" strike="noStrike" baseline="-25000">
                <a:solidFill>
                  <a:srgbClr val="000000"/>
                </a:solidFill>
                <a:latin typeface="Candara"/>
              </a:rPr>
              <a:t>3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(g)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Problem: What mass of ammonia is formed when 3.75 g of nitrogen gas reacts with hydrogen gas? 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olution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Using the Four Steps process: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1: </a:t>
            </a:r>
            <a:r>
              <a:rPr b="0" lang="en-CA" sz="1200" spc="-1" strike="noStrike">
                <a:solidFill>
                  <a:srgbClr val="073e87"/>
                </a:solidFill>
                <a:latin typeface="Candara"/>
              </a:rPr>
              <a:t>The equation is balanced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73e87"/>
                </a:solidFill>
                <a:latin typeface="Candara"/>
              </a:rPr>
              <a:t>Step 2: </a:t>
            </a: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Convert the given mass or volume of a reactant or product to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ndara"/>
              </a:rPr>
              <a:t>Earlier we calculated that 3.75 grams of nitrogen contain 0.133 moles.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Candara"/>
              </a:rPr>
              <a:t>Lesson 2: </a:t>
            </a:r>
            <a:r>
              <a:rPr b="0" lang="en-CA" sz="3600" spc="-1" strike="noStrike">
                <a:solidFill>
                  <a:srgbClr val="073e87"/>
                </a:solidFill>
                <a:latin typeface="Candara"/>
              </a:rPr>
              <a:t>Using Molar Masses in Stoichiometric Problems cont’d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42:54Z</dcterms:created>
  <dc:creator>user</dc:creator>
  <dc:description/>
  <dc:language>en-US</dc:language>
  <cp:lastModifiedBy>user</cp:lastModifiedBy>
  <dcterms:modified xsi:type="dcterms:W3CDTF">2011-11-09T17:06:50Z</dcterms:modified>
  <cp:revision>29</cp:revision>
  <dc:subject/>
  <dc:title>Stoichiometry</dc:title>
</cp:coreProperties>
</file>